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10.jpeg" ContentType="image/jpeg"/>
  <Override PartName="/ppt/media/image11.gif" ContentType="image/gif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E1C-8F4F-466C-ADA5-BE9522DD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6279-974C-4FF1-B505-C01266DD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E373-2494-4FFB-91DF-4510FC27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60F-04A6-4EC3-915A-EEC93EBF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0650-0CDB-4E27-8C32-62C2CF77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05A4-119A-41DD-8C2C-F7C3AA89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FD8E-7C01-44DD-A2CD-17F7CD4F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F0B8-B5C2-4678-B6BE-3C1AC015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A8C7-B9C8-4B30-9F46-5EC411E9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7FEA-7803-4491-89F8-0AFCF866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DF31-E1A6-4DD7-A73F-9B2D6B7A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FF2-2917-4897-8759-7F2EBC2C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5A28-F9A8-4488-90A0-05984085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4F37-8178-4CF9-BB02-EF6E6259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1CE3-1FFF-47E9-BCDF-D84775B9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C979-0F6B-41F7-B035-C6D23137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7CCC-B8ED-4A46-A342-8BBDBEFC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6FC-AE75-4DC5-B278-1D8C7A85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B0D8-D53D-4AA4-9D8D-BD68CF4F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0B2-AB5B-49CF-9C70-86D7253F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1068-DDAE-489E-9864-A3725A26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2315-A101-4650-B4F3-EFEC34E6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885-CC45-4013-814C-CECBDEF3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DCC-B268-4AC2-95B5-2FD8D6F2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81F6-7301-43E3-BB1F-3B215F405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4050-D2B4-4C6D-BC5D-5E6B191BA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fvwp.uwosh.edu/teachingresources/index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42876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e 6 Traits of Writing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*Idea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*Organiz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*Word Choi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*Sentence Fluenc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*Voi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*Conventi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2332080" cy="2136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23880" y="5867280"/>
            <a:ext cx="693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reated by: Jennifer Heidl-Knobloch &amp; Jody Drak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Sentence Fluency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riter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Vary sentence beginning, structure, and length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complete sentenc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transitions (internal &amp; external) to promote cade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550440"/>
            <a:ext cx="762012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Voice</a:t>
            </a:r>
            <a:r>
              <a:rPr b="0" lang="en-US" sz="6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the heart and soul of the writing, the magic, the wit, the feeling, the life and breath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orthwest Regional Educational Labor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600" y="245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57800" y="4419720"/>
            <a:ext cx="18860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550440"/>
            <a:ext cx="762012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Voice 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riter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Write honestly and from the hea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Interact with the read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* without using YO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language that brings the topic to lif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Care about top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expression to voice personality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And lastly…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828800"/>
            <a:ext cx="685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571500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550440"/>
            <a:ext cx="762012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Conventions</a:t>
            </a:r>
            <a:r>
              <a:rPr b="0" lang="en-US" sz="5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 of you may not enjoy the editing process, but without this step, the other 5 traits could be overshadowed by errors that distract the reader. This trait is essential to a polished composi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Conventions 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riter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Turn in a clean, edited, and polished final draf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Reinforce the organization with good paragraph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correct punctuation, spelling, and gramma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written without effort is in general                     read without pleasur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amuel John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rite to taste life twic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 Anais 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838080"/>
            <a:ext cx="6934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otations to Inspi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505320" y="5257800"/>
            <a:ext cx="226692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21304"/>
                </a:solidFill>
                <a:latin typeface="Times New Roman"/>
              </a:rPr>
              <a:t>Works Cited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ssment.”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rthwest Regional Educational Laboratory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Jan. 2005. 6 July 2005. &lt;www.nwrel.org/assessment/scoring.php?odelay=3&amp;d=1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mmar Cartoons.”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oogle Images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July 2005. &lt;www.images.google.com/images?synum=10&amp;hl=en&amp;lr=&amp;q=grammar+cartoons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berts, Bethany. "Writing for Children Workshop: Writing Quotes."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 Ju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5. &lt; http://www.bethanyroberts.com/writing_quotes.htm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andel, Vicki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eating Writers Through 6-Trait Writing Assessment and Instruction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York: Addison Wesley Longman, 200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ele, Kimberly. “Ideas for Teaching Writing.” 23 June 2004. 6 July 2005. &lt;www.kimskorner4teachertalk.com/writing/menu.html.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ource for PowerPoi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://fvwp.uwosh.edu/teachingresources/index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x Valley Writing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oll down to Six Traits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Six Traits of Writing (PowerPoi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dy Drake and Jennifer Heidl-Knoblo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74674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         </a:t>
            </a:r>
            <a:br>
              <a:rPr sz="5000"/>
            </a:b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      </a:t>
            </a: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Ideas &amp; Content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deas are the heart of the message, the content of the piece…all the details that enrich and develop the them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orthwest Regional Educational Labor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1570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If you don’t care about what     you write about, your reader will be bored!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81280" y="3200400"/>
            <a:ext cx="2298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11280"/>
            <a:ext cx="76201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Ideas &amp; Content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riter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arrow the topic to something specif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a fresh, original perspectiv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When possible, write from experie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important, interesting detail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not just common knowledg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Organization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 is the internal structure of a piece of writing, the thread of central meaning, the patter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orthwest Regional Educational Laborator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124080" y="3657600"/>
            <a:ext cx="26672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Organization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riter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an inviting lead that hooks the read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logical and effective order, structure, &amp; seque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smooth transitions to emphasize main idea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place supporting details where they are most appropria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a conclusion that gives the reader a sense of resolution (clinche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520200"/>
            <a:ext cx="7620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       </a:t>
            </a: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Word Choice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 word choice clarifies and expands       ideas…moves and enlightens the read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orthwest Regional Educational Laborator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tell me the moon is shining; show me the glint of light on broken glas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nton Chekh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20509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520200"/>
            <a:ext cx="7620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Word Choice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riter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words that create a mental picture for the read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powerful action verbs (vivid verb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specific nouns and adjectiv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language that is natural and not overdo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Be concise (tighten sentence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Use words correctly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~ Avoid repetition, slang, and cliché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21304"/>
                </a:solidFill>
                <a:latin typeface="Times New Roman"/>
              </a:rPr>
              <a:t>Sentence Fluency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 fluency is the rhythm and flow of the languag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Northwest Regional Educational Labor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e the greatest pleasure of writing is not what it’s about, but the music the words make.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Truman Capo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90920" y="4572000"/>
            <a:ext cx="4905360" cy="1373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47984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2:06:23Z</dcterms:created>
  <dc:creator>Jody Drake</dc:creator>
  <dc:description/>
  <dc:language>en-US</dc:language>
  <cp:lastModifiedBy>Jeanette Gordon</cp:lastModifiedBy>
  <dcterms:modified xsi:type="dcterms:W3CDTF">2007-12-27T19:27:42Z</dcterms:modified>
  <cp:revision>15</cp:revision>
  <dc:subject/>
  <dc:title>The 6 Traits of Writing</dc:title>
</cp:coreProperties>
</file>